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8BD-8E0F-42F6-BC34-E77FEF92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00F-ACA6-4B18-867E-86E11C1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0B1-BF88-4611-90F1-D165C461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896-EFB8-433F-B693-148946B7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3737-93A3-44C1-8582-B9F61C05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13E7-D203-4D2D-AF22-40DE2A6E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A14-6A76-413E-A3AF-89C9052B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419-6026-43F7-8849-F1B14759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22B-A979-4B8A-9139-519A4F0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04E8-D2A7-41D0-B7FF-55CD68AE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51C2-3C50-4DB5-985D-D239844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D6B-B760-45F5-B0F5-AE7E7D45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DDCF-4F04-4EC5-9337-EB3D1520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6677-F373-47C5-9B3C-3AD359E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3C30-4701-4062-8CF8-B55CE4C5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F79E-9090-4FD0-A3D1-3BE6D7E1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57A4-6355-4FDA-AC47-D2BB085C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B85-C573-41C9-9575-12F8D29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81C-C428-46C6-B112-0EA2FEBA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D25-23B1-4D9C-A912-FC43955C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F77-1812-4090-A91B-F24BDA3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62A-93A7-46E7-9EB3-5684E2D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025-610D-4714-BD1C-41207D2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44C-4D6A-47AE-8004-78C8595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A85-BFAF-4B1E-95EF-D828601AAFF0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38E7-7650-42A4-81DE-A997D4E7FCDE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Till There Was No Remedy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The Divided Kingdom, Part 2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7, Lesson 5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102-106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 Kings 14:28 – 16:5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– 5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died –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gned 52 Yea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15:6-7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22-2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kah – 20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25-3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8:5-1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glath-pileser III retur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62720" y="60948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glath-Pilezer of Assyria is pressing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37920" y="1523880"/>
            <a:ext cx="1143000" cy="21337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9144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how the Assyrian Empire will look when it finishes crushing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– 5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died –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gned 52 Yea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15:6-7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22-2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kah – 20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25-3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8:5-1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glath-pileser III retur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876920"/>
            <a:ext cx="6934320" cy="155700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saia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received his commission to prophesy in the year Uzziah died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a.6: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ached what the people did not want to h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saiah’s Call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w the glory of God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6:1-7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ife-shaking awe of Go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exposure of sinfulness before holines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ace that removes our s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5-7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aiah:  “Here am I; send me”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(8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rning: Preaching will not be popul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times it will seem useless (9-10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 may see the value of your preaching only after calamity  (11-13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1520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3760" y="1676520"/>
            <a:ext cx="1904760" cy="838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09880"/>
            <a:ext cx="1600200" cy="1526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512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yond These 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67080" y="3124080"/>
            <a:ext cx="6858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(Azariah) -1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ath of Jeroboam II 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4:28-29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echariah – 6 month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lain by Shallu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8-12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d of Jehu dynast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0:3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(Azariah) - 39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allum – 1 month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lain by Menahe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3-1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nahem – 10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uthles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6-18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’s sin &amp; punishment (leprosy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16-2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Jotham, his son, exercised actual rule of the peopl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ile Menahem is reigning, Tiglath-pileser III (Pul) arose in Assyri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aded Isra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ced tribut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9-2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’s sin &amp; punishment (leprosy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16-2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Jotham, his son, exercised actual rule of the peopl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ile Menahem is reigning, Tiglath-pileser III (Pul) arose in Assyri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aded Isra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ced tribut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9-2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– 5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kahiah – 2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lain by Peka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one of his captains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22-2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32:53Z</dcterms:created>
  <dc:creator> Tab Vines</dc:creator>
  <dc:description/>
  <dc:language>en-US</dc:language>
  <cp:lastModifiedBy>Frank D Vines</cp:lastModifiedBy>
  <dcterms:modified xsi:type="dcterms:W3CDTF">2006-01-22T05:59:56Z</dcterms:modified>
  <cp:revision>14</cp:revision>
  <dc:subject/>
  <dc:title>Till There Was No Remedy Part 2</dc:title>
</cp:coreProperties>
</file>